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8BE-4E41-40C0-AC4F-E40890D1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B109-601D-46EC-8CE3-3159DC5C50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A084-4BC4-4641-9B16-8F5A5938F5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C232-AF5C-48AA-AD9C-5313B8E7B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C592-55AE-474C-A6BF-34FB975CE3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FEB5-C998-45E7-B270-F1101A5A7D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4132-30E2-4E4A-B38C-A5E1E3C75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04F-708B-4F0A-8D47-7E417BFA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2C2-C477-4B15-9B1B-7EB72F23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ADB-7C09-4A86-A004-B1865BBD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AB5-152C-4BE5-B9DD-3EC87DBD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9AF4C-35ED-48D7-BF6A-AFD12DA2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37137-F3B3-48B3-9F46-E6A77130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B2BE2-876E-4CBC-BBF8-E6D75707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57B38-ECF4-4027-A297-FD717086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F8BBF-47E4-4AC6-A730-A060EA4E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00CC1-25A4-418B-94D0-0D374F74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1E984-1747-432A-AC2F-D4E9E71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060-3E8D-44BB-B5A4-FB3A9504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F52AA-B754-4353-BD73-08AFFF98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8F744-C7E4-41D4-BB37-9CD4429D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1D298-A4F1-48F6-BE11-D1C253F2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A26E8-D48F-4995-8F82-C1FADDA3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5F3B3-9717-47A5-9615-6F152E63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D13-0311-421D-B822-23892CF1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37C-F2C4-4384-BCF0-61353DEE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770-25BA-41DB-8F38-E71E8FAE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8A2-2ABC-4FE7-9B0A-CB641D43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A8E-EBCF-46FA-B958-4B4B16B1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A41-FC68-4F5C-8931-EB9F3846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57F-8665-4670-88BB-4F87CEB7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506E-889F-4DB4-BEF0-0E53975BD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2D7B-0F3E-415A-91B7-E62BE0191E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El Pretérito y El Imperfecto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ulo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ra. Fynb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In Spanish two past tenses are used. How do we know when to use the preterite tense and when to use the imperfect tense?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are the reasons to use the imperfect ten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On going action (something that was happe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Yo estudiab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uando mi hermano entró mi cuart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Repeated, habitual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a chic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emp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ac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 t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What one used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y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iño, jugaba con jugue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imperfecto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hombre grues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n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7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ime on the c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r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 tres de la tar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ac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í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houghts and E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stab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uy tris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Physical D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chic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r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sbelto y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ní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lo teñido de verd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1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1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 Pretéri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Quick Actions that occur. (Main actions or events in a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i al mercado y compré comida para la c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Actions that occurred at a specific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udié por cinco hora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y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Actions repeated a specific number of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 llamé por teléfono tres vece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oc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For both the imperfect and preterite tenses, there are trigger words. Here are some common trigger words for the imperfect and preterite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Pretér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che, ayer, el otro día, anteayer, el año pasado, el mes pasado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imperfec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empre, a menudo, por lo general, usualmente, algunas veces, a veces, todos los días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¡Práctica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yo (era/fui) niña, saltaba la cuer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che mis amigos (salían, salieron) por las cal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padre siempre (miraba, miró) la televis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 (era/ fui) a la tienda tres veces 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hica (tenía/ tuvo) trece a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sotros (hacíamos/ hicimos) la tarea el otro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maestro nos (gritaba/ gritó) a ve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familia (veía/ vio) películas todos los jue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ño pasado yo (estudiaba/ estudié) mu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os (estaban/ estuvieron) enojados con los resultad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3:57:53Z</dcterms:created>
  <dc:creator>HEHS</dc:creator>
  <dc:description/>
  <dc:language>en-US</dc:language>
  <cp:lastModifiedBy> </cp:lastModifiedBy>
  <dcterms:modified xsi:type="dcterms:W3CDTF">2011-12-19T19:07:38Z</dcterms:modified>
  <cp:revision>5</cp:revision>
  <dc:subject/>
  <dc:title>El Pretérito y El Imperfec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